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85E8-B335-49F1-822A-0222402F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3E0F-D042-4641-8615-A068AED5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4E5-FA5B-423A-9BD1-054FE4A3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3155-C50B-42D3-BD47-FDE20C2D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C4C2-27C3-44D2-87A3-43633982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59E1-37C0-4031-8A6C-012863F6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C605-9DFA-4616-9DEF-6FC3B72A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AB9A-ED51-4E58-AE3D-2877B9D0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B6D6-0529-4B5C-951B-8636CBAF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F8D-5FA5-4FB3-94F1-FCDCD641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1D9A-970B-43EE-B9CB-A35A7F9B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B939-1862-433A-B4FA-B840FEE1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E275-4BC5-4D0B-BD63-E71C2F5D79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e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98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w and Stable rate of inflatio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Econo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12320"/>
            <a:ext cx="480384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eflation/Dis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1999 to 2000 the inflation rate rose from 1.2% to 1.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2000 to 2001 the inflation rate fell from 1.6% to 1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verage level of prices rose but at a lower rate than the previous year – dis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next two years the inflation rate continued to fall (prices were still rising but by a smaller and smaller amou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2004 the country started to experience deflation (the average level of prices fell by 0.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2004 to 2005 the country was still in a period of deflation where average prices fell by 0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983120" y="825480"/>
            <a:ext cx="418788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112320"/>
            <a:ext cx="885672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o you underst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period of time did Japan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sinf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f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9311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http://www.google.co.uk/url?source=imglanding&amp;ct=img&amp;q=http://i.telegraph.co.uk/multimedia/archive/01116/PF-deflation_1116125c.jpg&amp;sa=X&amp;ei=k6KwT8ypGIeHhQeW_u39CA&amp;ved=0CAsQ8wc&amp;usg=AFQjCNEloQg40SDn1AVE973qmnWoM32zEg"/>
          <p:cNvPicPr/>
          <p:nvPr/>
        </p:nvPicPr>
        <p:blipFill>
          <a:blip r:embed="rId1"/>
          <a:stretch/>
        </p:blipFill>
        <p:spPr>
          <a:xfrm>
            <a:off x="5675400" y="2205000"/>
            <a:ext cx="3462120" cy="21668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79280" y="112320"/>
            <a:ext cx="633744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sts of 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hough consumers may be pleased with falling prices there are many problems with de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lation is also a bit of an unknown so it is more difficult to deal with than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economists argue that the costs of deflation are higher than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ff"/>
                </a:solidFill>
                <a:latin typeface="Arial"/>
              </a:rPr>
              <a:t>Un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D is low businesses may lay off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prices fall consumers will put off purch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ms will have to drop prices to encourage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mers will again put of purchasing believing that prices will fall further (deferred consump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mer confidence drops further depressing 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known as a deflationary spi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stment will also be put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8920" y="112320"/>
            <a:ext cx="321804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sts of 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ff"/>
                </a:solidFill>
                <a:latin typeface="Arial"/>
              </a:rPr>
              <a:t>Costs to deb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yone who has taken a loan (including house buyers who have taken a mortgage) suffers from deflation because the value of their debt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profits are low businesses will find it difficult to pay back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may be many bankrupt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ill make business confidence even w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859280" y="5421240"/>
            <a:ext cx="17272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y Japan Inflation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rcRect l="16875" t="29299" r="31328" b="33787"/>
          <a:stretch/>
        </p:blipFill>
        <p:spPr>
          <a:xfrm>
            <a:off x="3397320" y="1628640"/>
            <a:ext cx="565128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07640" y="83880"/>
            <a:ext cx="4824360" cy="65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Measuring Inflation - The Consumer Price Index (C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CPI is a weighted price index used to measure the change in the prices of a typical basket of goods and serv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contents of the basket are changed each y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 the UK they use information from the Family expenditure Surve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hanges in weighting reflects changes in spending behaviour (the more that is spent the higher the weight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 2008 fruit smoothies, muffins and USBs were included in the bask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icrowaves, 35mm camera film and CD singles were remov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716360" y="5229360"/>
            <a:ext cx="417672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mily Expenditure Surve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 representative monthly survey of UK household expenditure used to derive changes in the C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BasketOfGoods"/>
          <p:cNvPicPr/>
          <p:nvPr/>
        </p:nvPicPr>
        <p:blipFill>
          <a:blip r:embed="rId1"/>
          <a:stretch/>
        </p:blipFill>
        <p:spPr>
          <a:xfrm>
            <a:off x="5076720" y="1089000"/>
            <a:ext cx="40100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64880" y="127080"/>
            <a:ext cx="89787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Limitations of the consumer price index as a measure of infl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population groups experience different rates of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PI is an average household and not representative of individual house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eighting for tobacco or motoring expenses will be irrelevant for non smokers and those without a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PI does not include house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tgage prices will be a high proportion of spend of younger house bu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older home owners will have paid off their mortg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PI may overestimate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 rises may hide improvements in the quality of good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s and electrical goods may have gone up in price but this is due to new inno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2" descr="uk_consumer_price_index_rose_in_october_at_32"/>
          <p:cNvPicPr/>
          <p:nvPr/>
        </p:nvPicPr>
        <p:blipFill>
          <a:blip r:embed="rId1"/>
          <a:stretch/>
        </p:blipFill>
        <p:spPr>
          <a:xfrm>
            <a:off x="2195640" y="4181400"/>
            <a:ext cx="42861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920" y="127080"/>
            <a:ext cx="518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Causes of infl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flation comes from several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t can come directly from the </a:t>
            </a: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domestic econo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rice strategies of leading food retailers based on the strength of demand or competitive pressu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 rise in VAT cause firm’s production costs to go up and these being passed onto the consum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t can come from </a:t>
            </a: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external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 in price of crude oil or other imported commodities, foodstuffs and bever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anges in exchange r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alling pound against the Euro might cause higher import prices (remember WIDEC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VAT+rise+better"/>
          <p:cNvPicPr/>
          <p:nvPr/>
        </p:nvPicPr>
        <p:blipFill>
          <a:blip r:embed="rId1"/>
          <a:srcRect l="18500" t="0" r="17249" b="0"/>
          <a:stretch/>
        </p:blipFill>
        <p:spPr>
          <a:xfrm>
            <a:off x="5508720" y="333360"/>
            <a:ext cx="3127320" cy="3245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food-prices-raise"/>
          <p:cNvPicPr/>
          <p:nvPr/>
        </p:nvPicPr>
        <p:blipFill>
          <a:blip r:embed="rId2"/>
          <a:stretch/>
        </p:blipFill>
        <p:spPr>
          <a:xfrm>
            <a:off x="5796000" y="40053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07640" y="127080"/>
            <a:ext cx="5111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Causes of infl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are 3 main types of inflation that are caused by different th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99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00ff"/>
                </a:solidFill>
                <a:latin typeface="Arial"/>
              </a:rPr>
              <a:t>Demand pull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ff66"/>
                </a:solidFill>
                <a:latin typeface="Arial"/>
              </a:rPr>
              <a:t>Cost push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cess </a:t>
            </a: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monetary grow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 the name suggests demand pull inflation is caused by an increase demand (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st likely to occur when there is little spare capacity in the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 in AD will lead to an increase in pr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does AD increa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one or more of the components incr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raw a diagram illustrating demand pu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www.bized.co.uk/sites/bized/files/images/dpull_infl.gif"/>
          <p:cNvPicPr/>
          <p:nvPr/>
        </p:nvPicPr>
        <p:blipFill>
          <a:blip r:embed="rId1"/>
          <a:stretch/>
        </p:blipFill>
        <p:spPr>
          <a:xfrm>
            <a:off x="5219640" y="1844640"/>
            <a:ext cx="38005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07640" y="127080"/>
            <a:ext cx="4608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Causes of infl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st push inflation occurs as a result of an increase in the costs of 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y increase in a firm’s costs pushes the supply curve 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the cost of an input such as oil that affects the costs of all business in the economy increases the SRAS will shift upw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ings that cause production costs to  go up and force firms to raise their prices to maintain profit margi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ise in costs of imported raw materials (e.g. by a fall in the value of the country’s currenc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ing labour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er indirect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ge price spi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rcRect l="0" t="0" r="0" b="18179"/>
          <a:stretch/>
        </p:blipFill>
        <p:spPr>
          <a:xfrm>
            <a:off x="5119560" y="1413000"/>
            <a:ext cx="3756240" cy="36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08000" y="127080"/>
            <a:ext cx="4751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Causes of infl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66"/>
                </a:solidFill>
                <a:latin typeface="Arial"/>
              </a:rPr>
              <a:t>Cost push and demand pull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t’s say house prices rise and the wealth effect comes into pl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conomy has little spare capacity (it is working close to full employ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umption incr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ggregate demand increases  capacity causing demand pull inflation </a:t>
            </a:r>
            <a:r>
              <a:rPr b="0" lang="en-GB" sz="2200" spc="-1" strike="noStrike">
                <a:solidFill>
                  <a:srgbClr val="9900ff"/>
                </a:solidFill>
                <a:latin typeface="Arial"/>
              </a:rPr>
              <a:t>(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ers will demand higher wages to help them keep their current standard of li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demand for higher wages will cause cost push inflation </a:t>
            </a:r>
            <a:r>
              <a:rPr b="0" lang="en-GB" sz="2200" spc="-1" strike="noStrike">
                <a:solidFill>
                  <a:srgbClr val="9900ff"/>
                </a:solidFill>
                <a:latin typeface="Arial"/>
              </a:rPr>
              <a:t>(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gher wages may also give households the illusion that they have more mone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will further increase consumption and increase AD </a:t>
            </a:r>
            <a:r>
              <a:rPr b="0" lang="en-GB" sz="2200" spc="-1" strike="noStrike">
                <a:solidFill>
                  <a:srgbClr val="9900ff"/>
                </a:solidFill>
                <a:latin typeface="Arial"/>
              </a:rPr>
              <a:t>(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4816440" y="1125360"/>
            <a:ext cx="430380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74240" y="112680"/>
            <a:ext cx="4397400" cy="60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lation is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2400" spc="-1" strike="noStrike">
                <a:solidFill>
                  <a:srgbClr val="9900ff"/>
                </a:solidFill>
                <a:latin typeface="Arial"/>
              </a:rPr>
              <a:t>persistent ri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average prices in the economy (learn this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is it meas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ally using the CPI – Consumer Pric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inflation targ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ends o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UK is 2% C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ff66"/>
                </a:solidFill>
                <a:latin typeface="Arial"/>
              </a:rPr>
              <a:t>Watch inflation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ff66"/>
                </a:solidFill>
                <a:latin typeface="Arial"/>
              </a:rPr>
              <a:t>Show how prices have changed over th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1214291337532_inflation-rate-india"/>
          <p:cNvPicPr/>
          <p:nvPr/>
        </p:nvPicPr>
        <p:blipFill>
          <a:blip r:embed="rId1"/>
          <a:stretch/>
        </p:blipFill>
        <p:spPr>
          <a:xfrm>
            <a:off x="4427640" y="2708280"/>
            <a:ext cx="4552920" cy="3749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3"/>
          <p:cNvSpPr/>
          <p:nvPr/>
        </p:nvSpPr>
        <p:spPr>
          <a:xfrm>
            <a:off x="5364000" y="333360"/>
            <a:ext cx="244800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a persistent increase in the average price level in the economy usually measured with the CPI (Consumer Price Ind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08000" y="127080"/>
            <a:ext cx="54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Causes of infl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66"/>
                </a:solidFill>
                <a:latin typeface="Arial"/>
              </a:rPr>
              <a:t>Excess monetary grow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netarists (a branch of new classical economists) believe that inflation is caused by excessive increases in money supp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there is more money in the economy there will be higher spe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 will 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cause this is a new classical theory we draw the LRAS ver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ing money supply (quantitative easing) tends to be a policy of last res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he UK the Bank of England has recently (2012) decided on a policy of QE because the low interest rates were not encouraging consum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y believe it is safe to do this because there is spare capacity in the economy but are watching the outcome carefull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rcRect l="0" t="0" r="0" b="21375"/>
          <a:stretch/>
        </p:blipFill>
        <p:spPr>
          <a:xfrm>
            <a:off x="5435640" y="260280"/>
            <a:ext cx="4121280" cy="324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5796000" y="4896000"/>
            <a:ext cx="3095640" cy="2092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5364000" y="3357720"/>
            <a:ext cx="378000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lton Friedman (1912-2006) was a Monetarist who passionately believed that government intervention always causes more harm than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07640" y="127080"/>
            <a:ext cx="626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Reducing infl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appropriate policy depends on the cause of inf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the cause is the price of oil then this is an external factor which is out of government’s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it is demand pull inflation government can try to dampen demand using deflationary/contractionary fiscal or monetary 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00ff"/>
                </a:solidFill>
                <a:latin typeface="Arial"/>
              </a:rPr>
              <a:t>Eval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are often problems with contractionary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ing taxes, reducing government spending or putting up interest rates are not popular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are lags with both fiscal and monetary policy of 1 to 2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overnment spending budgets are developed over a long period of time and may need lengthy legislative procedures to make any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www.lonestar.edu/departments/learningcenter/evaluation.gif"/>
          <p:cNvPicPr/>
          <p:nvPr/>
        </p:nvPicPr>
        <p:blipFill>
          <a:blip r:embed="rId1"/>
          <a:stretch/>
        </p:blipFill>
        <p:spPr>
          <a:xfrm>
            <a:off x="6084720" y="1623960"/>
            <a:ext cx="310068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07640" y="127080"/>
            <a:ext cx="626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Reducing inflation  /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netary policy will harm some people in the economy more than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yone that has a loan or mortgage and businesses that want to inv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government that is looking to be re-elected will be reluctant to use these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one of the reasons that many developed countries have monetary policy managed by their central bank which is an independent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UK MPC need to make sure that inflation is kept within +/- 1% of 2.5% otherwise they have to write a letter to the government explaining 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ed does not have an official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important that people have faith in the central bank to keep inflation rates stable or they will demand higher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http://www.lonestar.edu/departments/learningcenter/evaluation.gif"/>
          <p:cNvPicPr/>
          <p:nvPr/>
        </p:nvPicPr>
        <p:blipFill>
          <a:blip r:embed="rId1"/>
          <a:stretch/>
        </p:blipFill>
        <p:spPr>
          <a:xfrm>
            <a:off x="6084720" y="1623960"/>
            <a:ext cx="310068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8000" y="127080"/>
            <a:ext cx="590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Reducing inflation / Evalu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adays monetary policy is considered to be the most effective way of managing AD in the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est rates are seen as the best weap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scal policy is not seen as an effective tool for 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vernments have commitments to the public so it is very difficult to cut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any cut in G would take a long time to have an effect on price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y side policies are used to fix cost push inflation (as long as it is a domestic iss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really difficult to say which bit of inflation is cost push and which bit is demand pull so policy makers tend to use a mix of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http://www.lonestar.edu/departments/learningcenter/evaluation.gif"/>
          <p:cNvPicPr/>
          <p:nvPr/>
        </p:nvPicPr>
        <p:blipFill>
          <a:blip r:embed="rId1"/>
          <a:stretch/>
        </p:blipFill>
        <p:spPr>
          <a:xfrm>
            <a:off x="6084720" y="1623960"/>
            <a:ext cx="310068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8000" y="127080"/>
            <a:ext cx="5472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Reducing inflation / Evalu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iggest issue with reducing AD is the loss of output and hence un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tentially there is a trade off between inflation and un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unemployment is lowered AD will increase causing 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inflation is lowered AD will decrease causing un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sibility for managing AD might be best left to automatic stabilizers of fiscal policy and careful changes in monetary policy carried out by and independent central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www.lonestar.edu/departments/learningcenter/evaluation.gif"/>
          <p:cNvPicPr/>
          <p:nvPr/>
        </p:nvPicPr>
        <p:blipFill>
          <a:blip r:embed="rId1"/>
          <a:stretch/>
        </p:blipFill>
        <p:spPr>
          <a:xfrm>
            <a:off x="5508720" y="1623960"/>
            <a:ext cx="31003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798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L onl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lculating Inf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920" y="127080"/>
            <a:ext cx="4255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Using index numb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is straight forward if you can calculate percentage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is table shows the made up index of house pr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005 is the base y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 2006 there is an increase of 8.4% so the index goes up to 108.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 2007 there is an increase of 20% since 2005 so the index is 120.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We need to take more care when working out the percentage change from 2006 to 200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t is not 11.6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t is (120-108.4)/108.4 x 100 = 10.7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Difference between the two years divided by the original yea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43280" y="333360"/>
          <a:ext cx="4038840" cy="2917800"/>
        </p:xfrm>
        <a:graphic>
          <a:graphicData uri="http://schemas.openxmlformats.org/drawingml/2006/table">
            <a:tbl>
              <a:tblPr/>
              <a:tblGrid>
                <a:gridCol w="2019600"/>
                <a:gridCol w="201924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4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9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9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4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9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920" y="126720"/>
            <a:ext cx="842472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Using index numb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we bring several indices together in a basket we have to give each one a weigh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weighting will depend on the proportion of income that is spent on that g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f we take this example on average 40% of income is spent on housing so it gets a weighting of 0.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o work out the weighted index you just multiply the index by the weigh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4360" y="2924280"/>
          <a:ext cx="7056360" cy="3628800"/>
        </p:xfrm>
        <a:graphic>
          <a:graphicData uri="http://schemas.openxmlformats.org/drawingml/2006/table">
            <a:tbl>
              <a:tblPr/>
              <a:tblGrid>
                <a:gridCol w="1439640"/>
                <a:gridCol w="792360"/>
                <a:gridCol w="718920"/>
                <a:gridCol w="936720"/>
                <a:gridCol w="1079640"/>
                <a:gridCol w="792000"/>
                <a:gridCol w="129708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 for year 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 for year X times 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 for year X +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 for year (X+1) times 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44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stuf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t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576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tai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126720"/>
            <a:ext cx="842472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Using index numb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find out the rate of inflation you need to do the following s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w index – old index divided by old ind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his case it would be Index for (X +1) minus Index for X divided by Index for X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ultiply by 100 to get the % inflation r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112 – 107.5) / 107.5 = 4.2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4360" y="2852640"/>
          <a:ext cx="7056360" cy="3629160"/>
        </p:xfrm>
        <a:graphic>
          <a:graphicData uri="http://schemas.openxmlformats.org/drawingml/2006/table">
            <a:tbl>
              <a:tblPr/>
              <a:tblGrid>
                <a:gridCol w="1439640"/>
                <a:gridCol w="792360"/>
                <a:gridCol w="718920"/>
                <a:gridCol w="936720"/>
                <a:gridCol w="1079640"/>
                <a:gridCol w="792000"/>
                <a:gridCol w="12970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 for year 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 for year X times 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 for year X +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 for year (X+1) times 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44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stuf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t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576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tai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400_F_15629419_D0yXkiKqqt3J1oxQNH7grqXflFCEHedL"/>
          <p:cNvPicPr/>
          <p:nvPr/>
        </p:nvPicPr>
        <p:blipFill>
          <a:blip r:embed="rId1"/>
          <a:stretch/>
        </p:blipFill>
        <p:spPr>
          <a:xfrm>
            <a:off x="1187280" y="3429000"/>
            <a:ext cx="3095640" cy="2470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202680"/>
            <a:ext cx="5346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ime for you to do some wor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homework do some research on inflation in your chosen countr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 – P241 1a &amp;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L – P242/3 Data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 rot="492000">
            <a:off x="5709960" y="236160"/>
            <a:ext cx="3213360" cy="22269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rfect 10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 rot="20896200">
            <a:off x="5860440" y="2583000"/>
            <a:ext cx="2858760" cy="3933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rfect 15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developed diagra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gument for and against with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http://www.google.co.uk/url?source=imglanding&amp;ct=img&amp;q=http://www.cbc.ca/news/yourcommunity/hi-584-purchasing-power.jpg&amp;sa=X&amp;ei=8J6wT5XgK8bQhAfQ78jvCA&amp;ved=0CAsQ8wc4QA&amp;usg=AFQjCNEqa32ndhGvUGc-QjnoZc8AqDABFQ"/>
          <p:cNvPicPr/>
          <p:nvPr/>
        </p:nvPicPr>
        <p:blipFill>
          <a:blip r:embed="rId1"/>
          <a:stretch/>
        </p:blipFill>
        <p:spPr>
          <a:xfrm>
            <a:off x="5364000" y="1773360"/>
            <a:ext cx="4857840" cy="2977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50560" y="188640"/>
            <a:ext cx="5113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hy worry about inf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a significant number of negative consequences associated with high levels of 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oss of purchasing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ate of inflation is 2% the average price of all goods and services in the economy has risen by 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f your salary/wages stays the same then it means you can buy less good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 purchasing power (the amount you can buy) has been re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case we say that you have had a fall in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re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ncome (income adjusted for inf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http://www.google.co.uk/url?source=imglanding&amp;ct=img&amp;q=http://www.cbc.ca/news/yourcommunity/hi-584-purchasing-power.jpg&amp;sa=X&amp;ei=8J6wT5XgK8bQhAfQ78jvCA&amp;ved=0CAsQ8wc4QA&amp;usg=AFQjCNEqa32ndhGvUGc-QjnoZc8AqDABFQ"/>
          <p:cNvPicPr/>
          <p:nvPr/>
        </p:nvPicPr>
        <p:blipFill>
          <a:blip r:embed="rId1"/>
          <a:stretch/>
        </p:blipFill>
        <p:spPr>
          <a:xfrm>
            <a:off x="5842080" y="1773360"/>
            <a:ext cx="4857840" cy="2977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6080" y="188640"/>
            <a:ext cx="5689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hy worry about inf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Loss of purchasing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f your income was linked to the inflation rate you would automatically get a 2% cost of living increase which means your real income has remained the s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f you worked for a company that had a strong union this may be the case but lots of people do not have inflation linked inc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elf employed, weak trade unions, fixed incomes (old people on pensions/unemployed on benefi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xpected rates of inflation are import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f your company expects 1.5% inflation and gives you an increase of 1.5% but then the inflation rate turns out to be 2% your purchasing power will have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http://www.google.co.uk/url?source=imglanding&amp;ct=img&amp;q=http://4.bp.blogspot.com/__I4vYMAL2yQ/S_arqZjySgI/AAAAAAAAAjw/tFhNKLWRvZE/s1600/Savings.jpg&amp;sa=X&amp;ei=pJ-wT92nGMi2hAf376X_CA&amp;ved=0CAsQ8wc&amp;usg=AFQjCNEqUz7Ew0pwf88Ed1dqwpUeFsuQUw"/>
          <p:cNvPicPr/>
          <p:nvPr/>
        </p:nvPicPr>
        <p:blipFill>
          <a:blip r:embed="rId1"/>
          <a:stretch/>
        </p:blipFill>
        <p:spPr>
          <a:xfrm>
            <a:off x="4216320" y="549360"/>
            <a:ext cx="4915080" cy="5657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hy worry about inf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Effect on sav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f you save $1000 in the bank at 4% annual interest you will end up with $1,0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f the inflation rate is 6% then the real rate of interest (the interest rate adjusted for inflation) will be negative (4% - 6% = -2%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Your savings will not buy as much as they did the year befo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You would have been better to spend it than save 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You will have lost purchasing pow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flation therefore discourages sav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eople will buy assets such as houses or art which will be worth mo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s the bank uses savings to lend to others – less saving will mean less funds for invest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is may have negative implications for grow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5338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hy worry about inf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Effect on Interest Ra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mmercial banks make money from charging interest to people who borrow mone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f there is a high rate of inflation banks will raise their interest rates to keep the real rate that they earn posit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Effect on international competitiven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f a country has a higher rate of inflation than its trading partners its exports will be less competit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mports from lower-inflation countries will be more attract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is may worsen the balance of pay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is could lead to unemployment in export industries and industries that compete with impor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www.google.co.uk/url?source=imglanding&amp;ct=img&amp;q=http://www.buytolet.com/wp-content/uploads/2012/04/interest-rate-increase1.jpg&amp;sa=X&amp;ei=FKCwT8zsEInDhAetyansCA&amp;ved=0CAwQ8wc&amp;usg=AFQjCNE59t_mPKSO9ZuZVIGhnUSnMhtKBg"/>
          <p:cNvPicPr/>
          <p:nvPr/>
        </p:nvPicPr>
        <p:blipFill>
          <a:blip r:embed="rId1"/>
          <a:stretch/>
        </p:blipFill>
        <p:spPr>
          <a:xfrm>
            <a:off x="5589720" y="54936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www.google.co.uk/url?source=imglanding&amp;ct=img&amp;q=http://3.bp.blogspot.com/-kIhg4cdaFxw/TywfHFcm5wI/AAAAAAAAAwQ/EL6A8pDBqs8/s1600/overpriced-2.jpg&amp;sa=X&amp;ei=MKGwT_WnA4aXhQf9orDiBg&amp;ved=0CAwQ8wc4VQ&amp;usg=AFQjCNEbUMcFfIMKGUVC8ELEe505Doqg3g"/>
          <p:cNvPicPr/>
          <p:nvPr/>
        </p:nvPicPr>
        <p:blipFill>
          <a:blip r:embed="rId2"/>
          <a:stretch/>
        </p:blipFill>
        <p:spPr>
          <a:xfrm>
            <a:off x="5589720" y="3860640"/>
            <a:ext cx="3538440" cy="20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4465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re is good deflation and bad def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Good def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comes about from the LRAS shif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utput will increase and price levels with f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assumes that AD remains (ceteris paribu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will also give a lower level of unemployment (derived demand for labour from the increased demand for goods an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5364000" y="333360"/>
            <a:ext cx="244800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l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a persistent fall in the average price level in the economy usually measured with the CPI (Consumer Price Ind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0" t="0" r="50004" b="12094"/>
          <a:stretch/>
        </p:blipFill>
        <p:spPr>
          <a:xfrm>
            <a:off x="5099040" y="2637000"/>
            <a:ext cx="388620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http://www.google.co.uk/url?source=imglanding&amp;ct=img&amp;q=http://www.marketoracle.co.uk/images/2009/July/deflation-6-5.jpg&amp;sa=X&amp;ei=-KGwT6KrJ4KnhAfs-ZzgCA&amp;ved=0CAwQ8wc&amp;usg=AFQjCNE5tG4yJqqrLwaH1B3aaG-_rzEzbA"/>
          <p:cNvPicPr/>
          <p:nvPr/>
        </p:nvPicPr>
        <p:blipFill>
          <a:blip r:embed="rId1"/>
          <a:srcRect l="9660" t="11465" r="6236" b="6294"/>
          <a:stretch/>
        </p:blipFill>
        <p:spPr>
          <a:xfrm>
            <a:off x="4975200" y="2349360"/>
            <a:ext cx="4165560" cy="29847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0560" y="61560"/>
            <a:ext cx="5545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Bad 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omes about from AD shif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ownwards shift of AD will result in lower price levels but also lower output (less grow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ould lead to an increase in un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and for goods and services will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ur is a derived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people think prices will go down they will put off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y see prices fall this will confirm their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will further put off consumption and AD will keep f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3640" y="112320"/>
            <a:ext cx="540036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apan has a problem with def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anks collapsed due to bad debts and bad investments in their own stock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ople built up precautionary savings in case they lost their j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depressed consumption and 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est rates were cut to 0.25% but it didn’t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damage had been do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umer and business confidence crumbled with people and firms reluctant to sp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n’t confuse deflation with a falling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f inflation (this is called disinfl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071509sleuth1"/>
          <p:cNvPicPr/>
          <p:nvPr/>
        </p:nvPicPr>
        <p:blipFill>
          <a:blip r:embed="rId1"/>
          <a:stretch/>
        </p:blipFill>
        <p:spPr>
          <a:xfrm>
            <a:off x="5435640" y="2284560"/>
            <a:ext cx="32637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5:32:27Z</dcterms:created>
  <dc:creator>Rom</dc:creator>
  <dc:description/>
  <dc:language>en-US</dc:language>
  <cp:lastModifiedBy>Julia Peters</cp:lastModifiedBy>
  <dcterms:modified xsi:type="dcterms:W3CDTF">2012-05-15T04:02:10Z</dcterms:modified>
  <cp:revision>38</cp:revision>
  <dc:subject/>
  <dc:title>Slide 1</dc:title>
</cp:coreProperties>
</file>